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4400" cy="37213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4"/>
          </p:nvPr>
        </p:nvSpPr>
        <p:spPr>
          <a:xfrm>
            <a:off x="384984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9CFCA3-D32B-4892-91C1-D9F57791F6CF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FC8206-C6B9-43E2-86B3-98C10C259D8F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0F5DB7-8BCF-454F-81EE-F39C783BA662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A0F03E-9A39-4BBC-A638-217E095A2B94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EA85FE-90A9-4F9B-AC43-608FFB933B4B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EFA47D-DD85-4FE7-8082-C2AF3E046C55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466610-5717-42BC-B682-A0B102A520C1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7E9AFB-3A46-4E6D-990B-006FCDCCB8D5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CB27D6-176A-4C74-8FDB-DBB75DC142F5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4257DE-726E-4906-BC3A-8C147D3C8DFB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0800" cy="372276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07920" y="4716000"/>
            <a:ext cx="49816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E607D6-3F9F-49B2-900A-2B4B31DBB830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4499E4-3B1A-40B1-9F39-05C0DB509DBB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4A78EA-45A8-4E7A-8ED5-C2723A09951C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2401D2-7D21-42D8-8C55-0FE4E21C98DB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C29E4D-505C-49D9-8E88-6240DF157A81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D94446-E1A3-41BC-8D4B-E3AC4A91670B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CD7253-0D86-452A-B180-F9714129CE0C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F40917-5669-4B84-8B96-502BFD4AC678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C9CECC-88F3-4685-9D45-ADE55931D577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BFC4A0-C84F-4A72-8F31-AFB13B0DBFE2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0E54CB-35D5-472B-9420-CF430727C001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F77A1D-2A12-4A0C-9F70-5F57140D31EE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C65A05-EC93-438F-BF5C-6F57B6DDD579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11160"/>
            <a:ext cx="29466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852720" y="9450360"/>
            <a:ext cx="2946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-1440" y="9450360"/>
            <a:ext cx="2946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-1440" y="11160"/>
            <a:ext cx="2946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852720" y="4680"/>
            <a:ext cx="2946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852720" y="9450360"/>
            <a:ext cx="2946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-1440" y="9450360"/>
            <a:ext cx="2946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-1440" y="4680"/>
            <a:ext cx="2946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227240" y="1058760"/>
            <a:ext cx="4413240" cy="33116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420480" y="5241960"/>
            <a:ext cx="593244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10321F-0F85-4951-8A8F-BB35434FCBAE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D091F-F439-4CA1-97BE-3B0E1BF821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99E44-DABB-44E4-BFCC-E087AAC993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04884-3148-4B7F-A7DD-2D998DD36B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ED510-7D6C-4E0C-BB6A-8D96B0A41F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A8BAE-6353-49FF-8F3B-F6E133F9A7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81FF6-3A45-46E7-B8AC-130B575680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C470E-6C64-4F55-A843-26A88C7BBC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3C3BD-2DB4-429F-AFE0-9DE095C791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80690-8213-41B5-8D66-F4B808FEAE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A1E36-5A41-4800-AB1B-FBB5F6CF6E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FA131-7C42-49B4-AF3F-515D0660A1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80416-B963-4430-838E-ABA5E5D1A5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95280" y="260280"/>
            <a:ext cx="152280" cy="63374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68120" y="260280"/>
            <a:ext cx="155880" cy="633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459280" y="6356160"/>
            <a:ext cx="682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F897C28-8F6C-4AC5-9FEA-3F46003A07F1}" type="slidenum">
              <a:rPr b="0" lang="fr-FR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48720" y="6350040"/>
            <a:ext cx="144360" cy="404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06200" y="6404040"/>
            <a:ext cx="649440" cy="40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55640" y="404640"/>
            <a:ext cx="8064360" cy="6120000"/>
          </a:xfrm>
          <a:prstGeom prst="rect">
            <a:avLst/>
          </a:prstGeom>
          <a:solidFill>
            <a:srgbClr val="a50021"/>
          </a:solidFill>
          <a:ln cap="sq"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7280" y="2636640"/>
            <a:ext cx="72374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404640"/>
            <a:ext cx="144360" cy="6120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8120" y="404640"/>
            <a:ext cx="147960" cy="6120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44360" y="141120"/>
          <a:ext cx="1187640" cy="69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360" y="141120"/>
                    <a:ext cx="118764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560" y="1412640"/>
            <a:ext cx="79218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3400" spc="-1" strike="noStrike">
                <a:solidFill>
                  <a:srgbClr val="ffffff"/>
                </a:solidFill>
                <a:latin typeface="Arial"/>
              </a:rPr>
              <a:t>Cycle de conférences KSAP-ENA</a:t>
            </a:r>
            <a:br>
              <a:rPr sz="3400"/>
            </a:br>
            <a:br>
              <a:rPr sz="34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La réforme budgétaire</a:t>
            </a:r>
            <a:br>
              <a:rPr sz="3800"/>
            </a:br>
            <a:br>
              <a:rPr sz="3400"/>
            </a:br>
            <a:r>
              <a:rPr b="0" lang="pl-PL" sz="3000" spc="-1" strike="noStrike">
                <a:solidFill>
                  <a:srgbClr val="ffffff"/>
                </a:solidFill>
                <a:latin typeface="Arial"/>
              </a:rPr>
              <a:t>Frank MORDACQ</a:t>
            </a:r>
            <a:br>
              <a:rPr sz="30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Ministère du Budget, des Comptes publics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et de la Fonction publique - Par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450480" y="6014880"/>
            <a:ext cx="256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 Narrow"/>
              </a:rPr>
              <a:t>Varsovie, 11 décembre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438280" y="6489720"/>
            <a:ext cx="495324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Conférence cofinancée par l'Union Européenn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dans le cadre du Fond Social Europé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2209680" y="6531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6629400" y="6548400"/>
          <a:ext cx="83808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29400" y="6548400"/>
                    <a:ext cx="83808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2. Un échange entre liberté et responsabilité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87280" y="1663560"/>
            <a:ext cx="2735280" cy="2070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Liberté accru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des acteu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de l’administr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5640" y="3786120"/>
            <a:ext cx="36003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Globalisation des crédits par programm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Fongibilité des crédits par nature, mais avec un plafond de masse salaria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Liberté de redéploiement des effectifs dans un plafond d’emplois exprimé en équivalent temps plei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08560" y="1663560"/>
            <a:ext cx="2792520" cy="2070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Plus grand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Responsabilité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des gestionnair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de programm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76720" y="3786120"/>
            <a:ext cx="3382920" cy="24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S’engager sur des objectifs et rendre compte des résultat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Rendre compte de l’utilisation des crédits par nature et par finalité de la dépen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Plus d’information dans l’exécution du budget en engagements et en paiem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tabLst>
                <a:tab algn="l" pos="0"/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5EA9D-F61C-408E-AB3C-93A8B8EAF427}" type="slidenum">
              <a:t>10</a:t>
            </a:fld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"/>
          <p:cNvGrpSpPr/>
          <p:nvPr/>
        </p:nvGrpSpPr>
        <p:grpSpPr>
          <a:xfrm>
            <a:off x="1314360" y="836640"/>
            <a:ext cx="7245360" cy="5956200"/>
            <a:chOff x="1314360" y="836640"/>
            <a:chExt cx="7245360" cy="5956200"/>
          </a:xfrm>
        </p:grpSpPr>
        <p:pic>
          <p:nvPicPr>
            <p:cNvPr id="179" name="" descr=""/>
            <p:cNvPicPr/>
            <p:nvPr/>
          </p:nvPicPr>
          <p:blipFill>
            <a:blip r:embed="rId1"/>
            <a:stretch/>
          </p:blipFill>
          <p:spPr>
            <a:xfrm>
              <a:off x="1314360" y="836640"/>
              <a:ext cx="7245360" cy="595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3989160" y="4480920"/>
              <a:ext cx="150588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520" rIns="83520" tIns="41760" bIns="417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a40079"/>
                  </a:solidFill>
                  <a:latin typeface="Arial"/>
                </a:rPr>
                <a:t>FONGIBILITÉ</a:t>
              </a:r>
              <a:r>
                <a:rPr b="0" lang="pl-PL" sz="1600" spc="-1" strike="noStrike">
                  <a:solidFill>
                    <a:srgbClr val="a40079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5238720" y="2963880"/>
              <a:ext cx="1960560" cy="1432080"/>
              <a:chOff x="5238720" y="2963880"/>
              <a:chExt cx="1960560" cy="1432080"/>
            </a:xfrm>
          </p:grpSpPr>
          <p:sp>
            <p:nvSpPr>
              <p:cNvPr id="182" name=""/>
              <p:cNvSpPr/>
              <p:nvPr/>
            </p:nvSpPr>
            <p:spPr>
              <a:xfrm>
                <a:off x="5425920" y="3681360"/>
                <a:ext cx="1773360" cy="714600"/>
              </a:xfrm>
              <a:custGeom>
                <a:avLst/>
                <a:gdLst>
                  <a:gd name="textAreaLeft" fmla="*/ 310320 w 1773360"/>
                  <a:gd name="textAreaRight" fmla="*/ 1285920 w 1773360"/>
                  <a:gd name="textAreaTop" fmla="*/ 95760 h 714600"/>
                  <a:gd name="textAreaBottom" fmla="*/ 618840 h 714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-2682637"/>
                    <a:lnTo>
                      <a:pt x="21168" y="7200"/>
                    </a:lnTo>
                    <a:lnTo>
                      <a:pt x="17280" y="0"/>
                    </a:lnTo>
                    <a:lnTo>
                      <a:pt x="12528" y="7200"/>
                    </a:lnTo>
                    <a:lnTo>
                      <a:pt x="14688" y="7200"/>
                    </a:lnTo>
                    <a:arcTo wR="7560" hR="21600" stAng="2717363" swAng="2325203"/>
                    <a:lnTo>
                      <a:pt x="9720" y="20700"/>
                    </a:lnTo>
                    <a:arcTo wR="7560" hR="21600" stAng="5757435" swAng="5042565"/>
                    <a:close/>
                  </a:path>
                  <a:path fill="darkenLess"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357435"/>
                    <a:lnTo>
                      <a:pt x="9720" y="20700"/>
                    </a:lnTo>
                    <a:arcTo wR="7560" hR="21600" stAng="5757435" swAng="5042565"/>
                    <a:close/>
                  </a:path>
                </a:pathLst>
              </a:custGeom>
              <a:solidFill>
                <a:srgbClr val="33cccc"/>
              </a:soli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>
                <a:off x="5238720" y="2963880"/>
                <a:ext cx="1773360" cy="716040"/>
              </a:xfrm>
              <a:custGeom>
                <a:avLst/>
                <a:gdLst>
                  <a:gd name="textAreaLeft" fmla="*/ 310320 w 1773360"/>
                  <a:gd name="textAreaRight" fmla="*/ 1285920 w 1773360"/>
                  <a:gd name="textAreaTop" fmla="*/ 95760 h 716040"/>
                  <a:gd name="textAreaBottom" fmla="*/ 620280 h 716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33cccc"/>
              </a:soli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4106880" y="5616720"/>
              <a:ext cx="1357200" cy="357120"/>
            </a:xfrm>
            <a:prstGeom prst="rightArrow">
              <a:avLst>
                <a:gd name="adj1" fmla="val 50000"/>
                <a:gd name="adj2" fmla="val 95010"/>
              </a:avLst>
            </a:prstGeom>
            <a:solidFill>
              <a:srgbClr val="33cccc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4029840" y="4971960"/>
              <a:ext cx="1357560" cy="357120"/>
            </a:xfrm>
            <a:prstGeom prst="rightArrow">
              <a:avLst>
                <a:gd name="adj1" fmla="val 50000"/>
                <a:gd name="adj2" fmla="val 95035"/>
              </a:avLst>
            </a:prstGeom>
            <a:solidFill>
              <a:srgbClr val="33cccc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3655800" y="3179880"/>
              <a:ext cx="903600" cy="786960"/>
              <a:chOff x="3655800" y="3179880"/>
              <a:chExt cx="903600" cy="786960"/>
            </a:xfrm>
          </p:grpSpPr>
          <p:sp>
            <p:nvSpPr>
              <p:cNvPr id="187" name=""/>
              <p:cNvSpPr/>
              <p:nvPr/>
            </p:nvSpPr>
            <p:spPr>
              <a:xfrm>
                <a:off x="3741840" y="3574080"/>
                <a:ext cx="817560" cy="392760"/>
              </a:xfrm>
              <a:custGeom>
                <a:avLst/>
                <a:gdLst>
                  <a:gd name="textAreaLeft" fmla="*/ 142920 w 817560"/>
                  <a:gd name="textAreaRight" fmla="*/ 592920 w 817560"/>
                  <a:gd name="textAreaTop" fmla="*/ 52560 h 392760"/>
                  <a:gd name="textAreaBottom" fmla="*/ 340200 h 392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-2682637"/>
                    <a:lnTo>
                      <a:pt x="21168" y="7200"/>
                    </a:lnTo>
                    <a:lnTo>
                      <a:pt x="17280" y="0"/>
                    </a:lnTo>
                    <a:lnTo>
                      <a:pt x="12528" y="7200"/>
                    </a:lnTo>
                    <a:lnTo>
                      <a:pt x="14688" y="7200"/>
                    </a:lnTo>
                    <a:arcTo wR="7560" hR="21600" stAng="2717363" swAng="2325203"/>
                    <a:lnTo>
                      <a:pt x="9720" y="20700"/>
                    </a:lnTo>
                    <a:arcTo wR="7560" hR="21600" stAng="5757435" swAng="5042565"/>
                    <a:close/>
                  </a:path>
                  <a:path fill="darkenLess"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357435"/>
                    <a:lnTo>
                      <a:pt x="9720" y="20700"/>
                    </a:lnTo>
                    <a:arcTo wR="7560" hR="21600" stAng="5757435" swAng="5042565"/>
                    <a:close/>
                  </a:path>
                </a:pathLst>
              </a:custGeom>
              <a:solidFill>
                <a:srgbClr val="33cccc"/>
              </a:soli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>
                <a:off x="3655440" y="3179880"/>
                <a:ext cx="817560" cy="394200"/>
              </a:xfrm>
              <a:custGeom>
                <a:avLst/>
                <a:gdLst>
                  <a:gd name="textAreaLeft" fmla="*/ 142560 w 817560"/>
                  <a:gd name="textAreaRight" fmla="*/ 592560 w 817560"/>
                  <a:gd name="textAreaTop" fmla="*/ 52560 h 394200"/>
                  <a:gd name="textAreaBottom" fmla="*/ 341640 h 39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33cccc"/>
              </a:soli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4560840" y="4900680"/>
              <a:ext cx="525600" cy="42840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4559040" y="4900680"/>
              <a:ext cx="453960" cy="42840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927920" cy="60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a fongibilité au sein du programm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1FDDC-2240-4761-87F5-F1D5B88E2817}" type="slidenum">
              <a:t>11</a:t>
            </a:fld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3. Un budget orienté vers les résultats : la recherche de la PERFORMANC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9279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4d4d4d"/>
                </a:solidFill>
                <a:latin typeface="Wingdings 3"/>
                <a:ea typeface="Wingdings 3"/>
              </a:rPr>
              <a:t>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objectifs déterminés dans le cadre des moyens alloués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≠ budgétisation par objectif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4d4d4d"/>
                </a:solidFill>
                <a:latin typeface="Wingdings 3"/>
                <a:ea typeface="Wingdings 3"/>
              </a:rPr>
              <a:t>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Des objectifs d’amélioration de l’efficacité de la dépens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S’engager sur les résultats : </a:t>
            </a:r>
            <a:r>
              <a:rPr b="0" i="1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le projet annuel de performance (LFI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Rendre compte des résultats : </a:t>
            </a:r>
            <a:r>
              <a:rPr b="0" i="1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le rapport annuel de performance (LR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Même présentation, même structure que le projet annuel de performance afin de faciliter la comparaison prévisions/réalisation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Vote en première lecture sur la loi de règlement n-1 avant l’examen du PLF n+1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91FB8-DB39-435B-8DE5-6C9FAA420A21}" type="slidenum">
              <a:t>12</a:t>
            </a:fld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 sens de la  performance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9440" indent="-379440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guide méthodologiqu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artagé entre le</a:t>
            </a:r>
            <a:br>
              <a:rPr sz="2000"/>
            </a:b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Gouvernement, le Parlement, la Cour des Comptes et le CIAP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79440" indent="-37944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e sélection d’objectifs et d’indicateurs de résultats représentative des priorités du programm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stratégi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our expliquer la cohérenc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bjectif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our répondre aux attentes du citoyen,</a:t>
            </a:r>
            <a:br>
              <a:rPr sz="2000"/>
            </a:b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 l’usager et du contribuable : un choix politiqu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indicateur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our mesurer la réalisation des objectifs retenu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79440" indent="-37944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objectifs et indicateurs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clairent les politiques et sont présentés au Parlement dans l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AP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et dont il est rendu compte dans l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P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tilisés et déclinés dans la gestion interne et donnant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 sens à l’activité de chaque agen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7329600" y="114480"/>
            <a:ext cx="1419120" cy="158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1BEAC-3F49-4082-B289-891CEDCC6D46}" type="slidenum">
              <a:t>13</a:t>
            </a:fld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dimensions de la performanc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Trois dimensions de la performance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1125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efficacité socio-économique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(point de vue du citoyen) : les effets attendus des politiques publiqu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qualité du service rendu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(point de vue de l’usager) : la qualité exigée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efficacité de la gestion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(point de vue du contribuable) : l’optimisation des moyen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indicateur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de mesure des résultats pour chaque objectif en fixant des cibles (niveaux de performance obtenus et attendus)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objectifs d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erformanc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et non d’activité ou de moyen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objectif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imputable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aux responsabl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 contrôle permanent exercé par un organisme public indépendant: l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omité interministériel d’audit des programmes (CIAP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3F7F5-3693-4E87-937B-96F1ECBE1168}" type="slidenum">
              <a:t>14</a:t>
            </a:fld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 pilotage par la performance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55640" y="1557000"/>
            <a:ext cx="79279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5 objectifs par programme, 2 indicateurs par objectif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500 objectifs – 1.000 indicateurs en 2009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897840" y="2492280"/>
            <a:ext cx="7696800" cy="3346560"/>
            <a:chOff x="897840" y="2492280"/>
            <a:chExt cx="7696800" cy="3346560"/>
          </a:xfrm>
        </p:grpSpPr>
        <p:sp>
          <p:nvSpPr>
            <p:cNvPr id="202" name=""/>
            <p:cNvSpPr/>
            <p:nvPr/>
          </p:nvSpPr>
          <p:spPr>
            <a:xfrm>
              <a:off x="900000" y="5077080"/>
              <a:ext cx="7694640" cy="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900000" y="4009320"/>
              <a:ext cx="7694640" cy="1080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900000" y="5838840"/>
              <a:ext cx="7694640" cy="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900000" y="3171240"/>
              <a:ext cx="7694640" cy="1044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98560" y="2644560"/>
              <a:ext cx="155916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Point de v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498400" y="2644560"/>
              <a:ext cx="173124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Axe d’analy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327560" y="2492280"/>
              <a:ext cx="133344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Exempl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d’objecti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309720" y="2492280"/>
              <a:ext cx="144792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Exempl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d’indicateu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97840" y="3258720"/>
              <a:ext cx="91728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Citoy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9640" y="4020480"/>
              <a:ext cx="87912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Us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98920" y="5077080"/>
              <a:ext cx="143568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Contribu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499480" y="3228480"/>
              <a:ext cx="159264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fficacité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ocio-économiq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98400" y="4042800"/>
              <a:ext cx="153612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qualité du 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nd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499840" y="5110200"/>
              <a:ext cx="115812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fficacité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e la ges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27920" y="3206520"/>
              <a:ext cx="1772280" cy="78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Accroître l’insertio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professionnell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es jeunes diplômé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309360" y="3173040"/>
              <a:ext cx="2228040" cy="78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% de diplômés ayan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un emploi 6 mois aprè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l’obtention de leur diplô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327920" y="4042800"/>
              <a:ext cx="173412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Accélérer le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écisions judiciai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328280" y="5110200"/>
              <a:ext cx="164448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éduire le coût d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gestion de l’impô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299640" y="4010760"/>
              <a:ext cx="2042280" cy="9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urée moyenne de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écisions rendues ;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Ancienneté moyenn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es jugements en cou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07920" y="5077080"/>
              <a:ext cx="204984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Coût par redevable d’u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impô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44E4B-2D91-4E07-AEC4-81C471A9CAEB}" type="slidenum">
              <a:t>15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4. La transparence des information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9279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épenses de personnel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en coût complet intégrant les cotisations patronales + l’ensemble 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emploi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rémunérées par l’Etat exprimés en « équivalents temps plein travaillés »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ETP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justification au premier euro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des crédits (éléments physico-financier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e renforcement du principe d’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iversalité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budgétair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présentation 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pérateur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(emplois et crédit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généralisation 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Autorisations d’Engagement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à toutes les dépens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e comptabilité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’analyse du coût des action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, répartissant les fonctions support et les services polyvalents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F9EFB-FBE9-4541-BB29-36C6207D1391}" type="slidenum">
              <a:t>16</a:t>
            </a:fld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55640" y="301680"/>
            <a:ext cx="7927920" cy="12556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5. La nouvelle comptabilité</a:t>
            </a:r>
            <a:br>
              <a:rPr sz="3000"/>
            </a:br>
            <a:r>
              <a:rPr b="1" lang="pl-PL" sz="2700" spc="-1" strike="noStrike">
                <a:solidFill>
                  <a:srgbClr val="ffffff"/>
                </a:solidFill>
                <a:latin typeface="Arial"/>
              </a:rPr>
              <a:t>Les outils de mesure de la situation financière de l’Etat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9279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La comptabilité élevée au niveau d’une loi organique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A coté de la comptabilité budgétaire en caisse, introduction de la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comptabilité d’exercice, en droits constatés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pour assurer la transparence de la situation financière de l’Etat (bilan +  hors-bilan)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Des comptes réguliers, sincères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et donnant une image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fidèle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de son patrimoine et de sa situation financièr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Une exigence de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qualité comptable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confiée aux comptables en lien avec les ordonnateur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CEA0C-5C27-4E5A-829D-5456845A70F6}" type="slidenum">
              <a:t>17</a:t>
            </a:fld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Une nouvelle comptabilité à trois dimension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90520" indent="-290520" algn="just"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Une comptabilité budgétaire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Fondée sur la comptabilisation des recettes et des dépenses budgétaires (encaissements/paiement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ériode complémentaire comptable de 20 jour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double suivi AE/CP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90520" indent="-29052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Une comptabilité d’exercice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 fondée sur la constatation des droits et obligations, proche des règles de comptabilité des entreprises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es opérations sont prises en compte au titre de l’exercice auquel elles se rattachent, indépendamment de leur date de paiement ou d’encaissemen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90520" indent="-29052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Une analyse des coûts des actions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 au service du gestionnaire (cf. CAC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90600" y="173160"/>
            <a:ext cx="66391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F965F-49D4-4D52-A3D1-3220822697F6}" type="slidenum">
              <a:t>18</a:t>
            </a:fld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a mise en œuvre de la nouvelle comptabilité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définition du cadre conceptuel : les normes comptabl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13 normes établis par le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comité des normes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(sur les états financiers, les charges, les immobilisations, les dettes, etc.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21 mai 2004 :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approbation par arrêté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déclinaison des norm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plan de comptes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par nature (PCE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 recueil des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instructions comptabl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construction du bilan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 recensement et la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valorisation du parc immobilier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(coût du marché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s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autres immobilisations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corporelles et les stock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rtification annuell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ar la Cour des Comptes :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es comptes 2006 et 2007 certifiés par la Cour des Compte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avec 13 puis 12 réserves (dont 2 générales sur les systèmes d’information et le contrôle interne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E8778-68E3-42FA-9524-168BAB9D2121}" type="slidenum">
              <a:t>19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a loi organique du 1</a:t>
            </a:r>
            <a:r>
              <a:rPr b="1" lang="pl-PL" sz="2600" spc="-1" strike="noStrike" baseline="30000">
                <a:solidFill>
                  <a:srgbClr val="ffffff"/>
                </a:solidFill>
                <a:latin typeface="Arial"/>
              </a:rPr>
              <a:t>er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 août 2001 relative aux lois de finances ( LOLF) en Franc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79279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Une nouvelle constitution financière pour l’Etat 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Une initiative parlementair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Un accord politique trans-partisan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Un consensus avec le gouvernemen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8C550-5B84-4BC4-8DE8-7C5E309D6C0E}" type="slidenum">
              <a:t>2</a:t>
            </a:fld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6. L’accroissement du rôle du Parlemen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budget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lus lisibl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a discussion et le vote par grandes politiques publiques (mission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a discussion des crédits au premier euro, des emplois par ministèr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ne information enrichie pour contrôler la dépense (PAP – annexes – RAP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 débat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otentiellement plus rich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’élargissement du droit d’amendement : redéploiements entre programmes d’une même missi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n cour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’exécution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, un accès renforcé à l’information pour les commissions des finances (actes réglementaire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pouvoirs d’investigations et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’audition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renforcés (recours à la Cour des Compte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’importance nouvelle d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a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oi de règlement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qui intègre les comptes et les rapports annuels de performanc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7857B-9E86-4B3A-B838-FAE9141E7788}" type="slidenum">
              <a:t>20</a:t>
            </a:fld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295280" y="1600200"/>
            <a:ext cx="3581640" cy="49528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Jusqu'en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371600" y="5054400"/>
            <a:ext cx="3352680" cy="14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94% des crédits sont reconduits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quasi-automatiquement d'une anné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ur l'autre (services votés), sans remise en caus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L'essentiel des débats porte sur seulement 6% du budget génér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257800" y="5057280"/>
            <a:ext cx="327672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100% des crédits sont discutés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au Parlement par miss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257800" y="1600200"/>
            <a:ext cx="358128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Depuis le budget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5667480" y="2577960"/>
            <a:ext cx="2333520" cy="23241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1776240" y="2575080"/>
            <a:ext cx="2419560" cy="23778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1733400" y="2819520"/>
            <a:ext cx="533520" cy="228600"/>
          </a:xfrm>
          <a:custGeom>
            <a:avLst/>
            <a:gdLst/>
            <a:ahLst/>
            <a:rect l="l" t="t" r="r" b="b"/>
            <a:pathLst>
              <a:path w="288" h="96">
                <a:moveTo>
                  <a:pt x="192" y="48"/>
                </a:moveTo>
                <a:lnTo>
                  <a:pt x="288" y="0"/>
                </a:lnTo>
                <a:lnTo>
                  <a:pt x="0" y="0"/>
                </a:lnTo>
                <a:lnTo>
                  <a:pt x="0" y="96"/>
                </a:lnTo>
                <a:lnTo>
                  <a:pt x="192" y="96"/>
                </a:lnTo>
                <a:lnTo>
                  <a:pt x="288" y="0"/>
                </a:lnTo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381480" y="2581200"/>
            <a:ext cx="1353960" cy="285840"/>
          </a:xfrm>
          <a:custGeom>
            <a:avLst/>
            <a:gdLst/>
            <a:ahLst/>
            <a:rect l="l" t="t" r="r" b="b"/>
            <a:pathLst>
              <a:path w="912" h="192">
                <a:moveTo>
                  <a:pt x="0" y="0"/>
                </a:moveTo>
                <a:lnTo>
                  <a:pt x="48" y="96"/>
                </a:lnTo>
                <a:lnTo>
                  <a:pt x="336" y="96"/>
                </a:lnTo>
                <a:lnTo>
                  <a:pt x="432" y="192"/>
                </a:lnTo>
                <a:lnTo>
                  <a:pt x="912" y="192"/>
                </a:lnTo>
                <a:lnTo>
                  <a:pt x="912" y="0"/>
                </a:lnTo>
                <a:lnTo>
                  <a:pt x="0" y="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429000" y="2057400"/>
            <a:ext cx="160020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esures nouvelles par ministère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97 votes en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95280" y="2346480"/>
            <a:ext cx="121932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ervices votés : 1 seul v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315200" y="2438280"/>
            <a:ext cx="762120" cy="457200"/>
          </a:xfrm>
          <a:custGeom>
            <a:avLst/>
            <a:gdLst/>
            <a:ahLst/>
            <a:rect l="l" t="t" r="r" b="b"/>
            <a:pathLst>
              <a:path w="480" h="288">
                <a:moveTo>
                  <a:pt x="0" y="96"/>
                </a:moveTo>
                <a:lnTo>
                  <a:pt x="336" y="288"/>
                </a:lnTo>
                <a:lnTo>
                  <a:pt x="480" y="288"/>
                </a:lnTo>
                <a:lnTo>
                  <a:pt x="480" y="0"/>
                </a:lnTo>
                <a:lnTo>
                  <a:pt x="0" y="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696080" y="2517840"/>
            <a:ext cx="106704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7 missions, 47 v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Un débat budgétaire enrichi et modernisé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6CC30-588C-4F23-BA5D-38FF947B3C5E}" type="slidenum">
              <a:t>21</a:t>
            </a:fld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7. Un nouveau système de responsabilité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 algn="just"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e pilotage par le responsable de programm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près arbitrage mené par le directeur des affaires financières,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l dispose des crédits et les répartit pour les besoins de la gestion interne,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l s’engage sur la performance devant le Parlement : l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rojet annuel de performance,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l rend compte devant le Parlement : l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pport annuel</a:t>
            </a:r>
            <a:br>
              <a:rPr sz="2000"/>
            </a:b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e performance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85840" indent="-28584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responsables de programme qui peuvent piloter plusieurs direction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85840" indent="-28584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e responsabilité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«managériale», une rémunération au mérit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73B38-C149-48A7-AEFB-61DC06523311}" type="slidenum">
              <a:t>22</a:t>
            </a:fld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8. </a:t>
            </a: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Une déconcentration de la gestion budgétai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es programmes nationaux se déclinent en</a:t>
            </a:r>
            <a:r>
              <a:rPr b="0" lang="pl-PL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budget opérationnel de programme (BOP)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(sur un périmètre ou un territoire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plan d’action avec des objectifs et indicateurs</a:t>
            </a:r>
            <a:br>
              <a:rPr sz="2000"/>
            </a:b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 performance adaptés aux enjeux opérationnels des services déconcentré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budget prévisionnel, détaillé par finalité et nature de dépens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schéma d’organisation financièr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n gestion : l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esponsable de budget opérationnel de programm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Il dispose d’un budget opérationnel de programme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Il s’engage et rend compte dans le cadre du dialogue de gestion au responsable de programme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6A564-B308-465E-AA84-9A68942217CF}" type="slidenum">
              <a:t>23</a:t>
            </a:fld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9. L’allégement des contrôles du ministère des financ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499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 contrôle budgétaire de soutenabilité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(décret du 27/01/05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bandon du contrôle de régularité confié aux gestionnair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visa amont sur la programmation budgétaire initial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n cours de gestion : une modularité des contrôles avec un contrôle a priori en fonction des enjeux et des risqu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comptes-rendus de gestion trimestriels par les gestionnair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2500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 contrôle comptable du paiement de la dépense allégé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: hiérarchisé ou partenaria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2500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Mais un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ontrôle interne comptabl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renforcé pour garantir la «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qualité comptabl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»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6805A-22E9-49EE-A1FA-521C2146256B}" type="slidenum">
              <a:t>24</a:t>
            </a:fld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e développement des contrôles exercés par les ministères gestionnair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Le développement du </a:t>
            </a:r>
            <a:r>
              <a:rPr b="0" lang="pl-PL" sz="2400" spc="-1" strike="noStrike" u="sng">
                <a:solidFill>
                  <a:srgbClr val="4d4d4d"/>
                </a:solidFill>
                <a:uFillTx/>
                <a:latin typeface="Arial"/>
              </a:rPr>
              <a:t>contrôle de gestion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: «améliorer le rapport entre les moyens engagés et l’activité ou bien avec les résultats obtenus»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 contrôle de gestion ministériel et par programme, et au niveau loca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Le renforcement du </a:t>
            </a:r>
            <a:r>
              <a:rPr b="0" lang="pl-PL" sz="2400" spc="-1" strike="noStrike" u="sng">
                <a:solidFill>
                  <a:srgbClr val="4d4d4d"/>
                </a:solidFill>
                <a:uFillTx/>
                <a:latin typeface="Arial"/>
              </a:rPr>
              <a:t>contrôle interne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Conséquence de la réorganisation des ministères et de l’allégement des contrôles financier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Mise en place d’un contrôle interne comptabl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Le développement de </a:t>
            </a:r>
            <a:r>
              <a:rPr b="0" lang="pl-PL" sz="2400" spc="-1" strike="noStrike" u="sng">
                <a:solidFill>
                  <a:srgbClr val="4d4d4d"/>
                </a:solidFill>
                <a:uFillTx/>
                <a:latin typeface="Arial"/>
              </a:rPr>
              <a:t>l’audit interne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Activité externe menée par des équipes dédiées (inspections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F457D-2895-4C32-B21A-47229F85CADD}" type="slidenum">
              <a:t>25</a:t>
            </a:fld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10. La mise en place de nouveaux systèmes d’informations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 algn="just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 système provisoire dès 2006 mais peu satisfaisant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 nouveau progiciel de gestion intégré (ERP) en construction (CHORUS) couvrant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’ensemble des administrations centrales et déconcentré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’ensemble des applications de dépenses, de recettes et toutes les comptabilité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Des infocentres de données permettant des restitution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 levier de modernisation et d’amélioration de la productivité, précédé d’une «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réingénierie des processus financiers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» (23.000 licences au lieu de 45.000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déploiement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progressif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prévu entre 2009 et 2011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 accompagnement indispensable dans le déploiement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DC52D-C357-4479-9CF9-0C488F7EB23A}" type="slidenum">
              <a:t>26</a:t>
            </a:fld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55640" y="301680"/>
            <a:ext cx="7927920" cy="12556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En conclusion: le temps long de la réforme </a:t>
            </a:r>
            <a:br>
              <a:rPr sz="2600"/>
            </a:b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es principales étapes de la réforme budgétaire : 2001-2007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4000" y="2421000"/>
            <a:ext cx="8351640" cy="1440"/>
          </a:xfrm>
          <a:prstGeom prst="line">
            <a:avLst/>
          </a:prstGeom>
          <a:ln cap="sq" w="76320">
            <a:solidFill>
              <a:srgbClr val="00ad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656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40328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6160" y="1916280"/>
            <a:ext cx="792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710160" y="1916280"/>
            <a:ext cx="792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0072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07672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291636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493236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831708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1027080" y="2490480"/>
            <a:ext cx="180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79440" y="3141720"/>
            <a:ext cx="131292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L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te par 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978200" y="3149640"/>
            <a:ext cx="187308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réation de la  Direction de la réforme budgéta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780000" y="3141720"/>
            <a:ext cx="18000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r>
              <a:rPr b="0" lang="pl-PL" sz="14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er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projet de loi de finances en mode LOL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jectifs de performance / indicateurs de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580000" y="3135240"/>
            <a:ext cx="1943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pport Lambert/Migaud sur la mise en œuvre de la LOL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6 : 1</a:t>
            </a:r>
            <a:r>
              <a:rPr b="0" lang="fr-FR" sz="14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ère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loi de finances en mode LOLF &amp; débat parlementa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451640" y="3135240"/>
            <a:ext cx="169236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r>
              <a:rPr b="0" lang="pl-PL" sz="14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ers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rapports annuels de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rtification des comptes par la Cour des Comp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596360" y="1916280"/>
            <a:ext cx="792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637236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00000" y="5589720"/>
            <a:ext cx="266724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r>
              <a:rPr b="0" lang="pl-PL" sz="16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èr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étape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truire les fond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073400" y="5589720"/>
            <a:ext cx="172260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pl-PL" sz="16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èm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étape :</a:t>
            </a:r>
            <a:r>
              <a:rPr b="0" lang="pl-PL" sz="18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préfig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659640" y="5589720"/>
            <a:ext cx="189072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r>
              <a:rPr b="0" lang="pl-PL" sz="16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èm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étape :</a:t>
            </a:r>
            <a:r>
              <a:rPr b="0" lang="pl-PL" sz="18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mise en œuv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5400000">
            <a:off x="2019240" y="4173480"/>
            <a:ext cx="431640" cy="2520720"/>
          </a:xfrm>
          <a:custGeom>
            <a:avLst/>
            <a:gdLst>
              <a:gd name="textAreaLeft" fmla="*/ 275760 w 431640"/>
              <a:gd name="textAreaRight" fmla="*/ 432000 w 431640"/>
              <a:gd name="textAreaTop" fmla="*/ 65520 h 2520720"/>
              <a:gd name="textAreaBottom" fmla="*/ 2455200 h 25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9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rot="5400000">
            <a:off x="4754520" y="4173480"/>
            <a:ext cx="431640" cy="2520720"/>
          </a:xfrm>
          <a:custGeom>
            <a:avLst/>
            <a:gdLst>
              <a:gd name="textAreaLeft" fmla="*/ 275760 w 431640"/>
              <a:gd name="textAreaRight" fmla="*/ 432000 w 431640"/>
              <a:gd name="textAreaTop" fmla="*/ 65520 h 2520720"/>
              <a:gd name="textAreaBottom" fmla="*/ 2455200 h 25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9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rot="5400000">
            <a:off x="7418160" y="4173480"/>
            <a:ext cx="431640" cy="2521080"/>
          </a:xfrm>
          <a:custGeom>
            <a:avLst/>
            <a:gdLst>
              <a:gd name="textAreaLeft" fmla="*/ 275760 w 431640"/>
              <a:gd name="textAreaRight" fmla="*/ 432000 w 431640"/>
              <a:gd name="textAreaTop" fmla="*/ 65520 h 2521080"/>
              <a:gd name="textAreaBottom" fmla="*/ 2455560 h 25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9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372360" y="2492280"/>
            <a:ext cx="25207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uvelle agence de gestion des systèmes d’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B3988-22E0-4416-8536-55AD5A02848D}" type="slidenum">
              <a:t>27</a:t>
            </a:fld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 pilotage de la réform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 pilotage assuré par le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ministère des finance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La création d’un structure dédiée: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la direction de la réforme budgétaire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, direction de projet  créée pour une durée limitée: 50 cadres de haut niveau aidé par des consultants pour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définir les nouvelles règles budgétaires et comptables (en associant les directions du budget et de la comptabilité publique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assurer le pilotage interministériel de la réforme (comité des directeurs financiers des ministères, forum des responsables de  programme, animation de comités locaux de la réforme…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Une feuille de route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, un calendrier, des jalon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e consultation permanente des commissions de finances du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Parlemen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t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4AFFA-6392-4059-A690-F2D7DFC27290}" type="slidenum">
              <a:t>28</a:t>
            </a:fld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enseignements de la mise en œuvr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La nécessité d’une implication au plus haut niveau (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soutien politique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La formation des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managers publics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à la culture de responsabilité 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e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formation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indispensable dans les ministères pour tous les agents quelque soit leur niveau  (formation de formateurs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Le recours a des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expérimentations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pour s’approprier la réform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e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communication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externe et et intern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La nécessité d’une mise sous tension par le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calendrier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810C6-3904-4892-AA1F-723446FC3B1A}" type="slidenum">
              <a:t>29</a:t>
            </a:fld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a LOLF doit répondre aux attentes …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71720" y="1471680"/>
            <a:ext cx="344520" cy="372960"/>
          </a:xfrm>
          <a:prstGeom prst="downArrow">
            <a:avLst>
              <a:gd name="adj1" fmla="val 50000"/>
              <a:gd name="adj2" fmla="val 27064"/>
            </a:avLst>
          </a:prstGeom>
          <a:solidFill>
            <a:srgbClr val="000099"/>
          </a:solidFill>
          <a:ln cap="sq"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98560" y="1879560"/>
            <a:ext cx="2519280" cy="2070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des élu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3933720"/>
            <a:ext cx="280656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1160" indent="-28116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1160"/>
                <a:tab algn="l" pos="1195560"/>
                <a:tab algn="l" pos="2109960"/>
                <a:tab algn="l" pos="3024360"/>
                <a:tab algn="l" pos="3938760"/>
                <a:tab algn="l" pos="4853160"/>
                <a:tab algn="l" pos="5767560"/>
                <a:tab algn="l" pos="6681960"/>
                <a:tab algn="l" pos="7596360"/>
                <a:tab algn="l" pos="8510760"/>
                <a:tab algn="l" pos="9425160"/>
                <a:tab algn="l" pos="1033956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Lisibilité budgétaire accrue et transparence dans l’exé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11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1160"/>
                <a:tab algn="l" pos="1195560"/>
                <a:tab algn="l" pos="2109960"/>
                <a:tab algn="l" pos="3024360"/>
                <a:tab algn="l" pos="3938760"/>
                <a:tab algn="l" pos="4853160"/>
                <a:tab algn="l" pos="5767560"/>
                <a:tab algn="l" pos="6681960"/>
                <a:tab algn="l" pos="7596360"/>
                <a:tab algn="l" pos="8510760"/>
                <a:tab algn="l" pos="9425160"/>
                <a:tab algn="l" pos="1033956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Meilleure affectation des ressources aux politiques publiques</a:t>
            </a: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467480" y="1471680"/>
            <a:ext cx="344520" cy="372960"/>
          </a:xfrm>
          <a:prstGeom prst="downArrow">
            <a:avLst>
              <a:gd name="adj1" fmla="val 50000"/>
              <a:gd name="adj2" fmla="val 27064"/>
            </a:avLst>
          </a:prstGeom>
          <a:solidFill>
            <a:srgbClr val="000099"/>
          </a:solidFill>
          <a:ln cap="sq"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386400" y="1879560"/>
            <a:ext cx="2519640" cy="2070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des fonctionnair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43640" y="3930480"/>
            <a:ext cx="25210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Plus grande liberté et responsabilité accrue des acteurs de l’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11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Des objectifs clai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13120" y="1471680"/>
            <a:ext cx="344520" cy="372960"/>
          </a:xfrm>
          <a:prstGeom prst="downArrow">
            <a:avLst>
              <a:gd name="adj1" fmla="val 50000"/>
              <a:gd name="adj2" fmla="val 27064"/>
            </a:avLst>
          </a:prstGeom>
          <a:solidFill>
            <a:srgbClr val="000099"/>
          </a:solidFill>
          <a:ln cap="sq"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92360" y="3933720"/>
            <a:ext cx="2746440" cy="29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Citoyens : meilleure compréhension de l’utilisation des impô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Usagers : des services publics mieux adaptés aux beso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Contribuables : meilleure utilisation des impô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45000" y="1879560"/>
            <a:ext cx="2519280" cy="2070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99"/>
                </a:solidFill>
                <a:latin typeface="Arial Narrow"/>
              </a:rPr>
              <a:t>des citoy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E50AD-5937-44A4-BFCC-3065D530C4B4}" type="slidenum">
              <a:t>3</a:t>
            </a:fld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Des premiers résultats encourageant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France a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especté les dates limite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fixées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spcBef>
                <a:spcPts val="1125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1</a:t>
            </a:r>
            <a:r>
              <a:rPr b="0" lang="pl-PL" sz="1800" spc="-1" strike="noStrike" baseline="30000">
                <a:solidFill>
                  <a:srgbClr val="4d4d4d"/>
                </a:solidFill>
                <a:latin typeface="Arial"/>
              </a:rPr>
              <a:t>ère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loi de finances voté en mode LOLF en 2006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s 1ers comptes 2006 certifiés par la Cour des Compt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naissance d’un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nouvelle forme de responsabilité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, encourageant les ministères à redéfinir leurs objectifs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n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éléguant les responsabilité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, le nouveau système encourage l’amélioration de la qualité du service public et une meilleure utilisation des ressources publiques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écloisonnement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des services entre les opérationnels, les financiers et les ressources humaines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enrichissement réel du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ialogue de gestion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mais une déclinaison de la performance à améliorer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84D9F-64A3-4264-8A99-E5A35B198024}" type="slidenum">
              <a:t>30</a:t>
            </a:fld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Malgré des débuts difficil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e phase d’apprentissag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: nouveaux standards, nouveaux outils, nouveau calendrier…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arges de manœuvre encore faible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: des faibles redéploiements, des fléchages de crédits par les administrations centrales …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harge de travail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lus complexe et plus grande (plus d'informations, de procédures d'engagement de dépense, etc.)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soucis concernant la disponibilité et l'exactitude de certain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util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, notamment les systèmes intégrés de gestion. Un débat non tranché sur le partage des gains de productivité ( peu de contrats pluriannuel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e problème de l’application de la réforme en  période de déficit budgétair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50234-1433-43B3-A36D-265E3A529A9B}" type="slidenum">
              <a:t>31</a:t>
            </a:fld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défis de plus long term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Un défi politique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: la réalité du rôle du Parlemen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Un défi  administratif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a cohérence entre les périmètres des programmes importants (100) et les compétences des administrations centrales (200 directions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s relations entre les administrations centrales et les services déconcentré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s relations entre les acteurs : ministère des finances/ ministères gestionnaires ; responsables de programmes opérationnels /directions support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ncitations pour réaliser les résultats et améliorer la gestion des ressources humaines (carrière, salaires, bonifications, etc.)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Un défi culturel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: le passage d’une culture de moyens et de régularité à une culture de résultat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Un défi technique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: améliorer les systèmes d'information pour la qualité et la fiabilité des données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6489720"/>
            <a:ext cx="495324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Conférence cofinancée par l'Union Européenn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dans le cadre du Fond Social Europé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2209680" y="6531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4" name=""/>
          <p:cNvGraphicFramePr/>
          <p:nvPr/>
        </p:nvGraphicFramePr>
        <p:xfrm>
          <a:off x="6629400" y="6548400"/>
          <a:ext cx="83808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29400" y="6548400"/>
                    <a:ext cx="83808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DE98E-F6AC-4739-AA33-469AD7990F48}" type="slidenum">
              <a:t>32</a:t>
            </a:fld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Plusieurs réformes dans un texte solenn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Une nouvelle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nomenclature budgétair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dans la discussion, le vote et l’exécution des lois de finances pour présenter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les finalités de la dépens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Un budget orienté vers les résultats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avec des objectifs et des indicateurs de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performanc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pour une permettre une nouvelle gestion publique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Des comptes plus transparents et plus précis basés sur la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comptabilité en droits constatés («accrual»)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et l'analyse des coûts, donnant aux gestionnaires de nouveaux outils pour gérer leurs dépens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Un nouveau système de gouvernance budgétaire et de procédure budgétaire: une collégialité gouvernementale et un rôle plus actif du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Parlement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dans l’autorisation et le contrôle des dépens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33CA9-BD64-4A77-81F3-377F7EEA90AB}" type="slidenum">
              <a:t>4</a:t>
            </a:fld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1. La nouvelle architecture budgétair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3249720" y="2209320"/>
            <a:ext cx="5892840" cy="3208320"/>
            <a:chOff x="3249720" y="2209320"/>
            <a:chExt cx="5892840" cy="3208320"/>
          </a:xfrm>
        </p:grpSpPr>
        <p:sp>
          <p:nvSpPr>
            <p:cNvPr id="116" name=""/>
            <p:cNvSpPr/>
            <p:nvPr/>
          </p:nvSpPr>
          <p:spPr>
            <a:xfrm>
              <a:off x="5238720" y="2209320"/>
              <a:ext cx="2306520" cy="75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4000" spc="-1" strike="noStrike">
                  <a:solidFill>
                    <a:srgbClr val="000000"/>
                  </a:solidFill>
                  <a:latin typeface="Arial"/>
                </a:rPr>
                <a:t>Miss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7" name=""/>
            <p:cNvCxnSpPr/>
            <p:nvPr/>
          </p:nvCxnSpPr>
          <p:spPr>
            <a:xfrm rot="5400000">
              <a:off x="5938920" y="3431160"/>
              <a:ext cx="926280" cy="6840"/>
            </a:xfrm>
            <a:prstGeom prst="bentConnector3">
              <a:avLst>
                <a:gd name="adj1" fmla="val 50000"/>
              </a:avLst>
            </a:prstGeom>
            <a:ln cap="sq" w="76320">
              <a:solidFill>
                <a:srgbClr val="000099"/>
              </a:solidFill>
              <a:miter/>
            </a:ln>
          </p:spPr>
        </p:cxnSp>
        <p:sp>
          <p:nvSpPr>
            <p:cNvPr id="118" name=""/>
            <p:cNvSpPr/>
            <p:nvPr/>
          </p:nvSpPr>
          <p:spPr>
            <a:xfrm>
              <a:off x="3630600" y="3888720"/>
              <a:ext cx="152244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Arial"/>
                </a:rPr>
                <a:t>Program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624640" y="3888720"/>
              <a:ext cx="152388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Arial"/>
                </a:rPr>
                <a:t>Program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620120" y="3888720"/>
              <a:ext cx="152244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Arial"/>
                </a:rPr>
                <a:t>Program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1" name=""/>
            <p:cNvCxnSpPr>
              <a:stCxn id="116" idx="2"/>
              <a:endCxn id="118" idx="0"/>
            </p:cNvCxnSpPr>
            <p:nvPr/>
          </p:nvCxnSpPr>
          <p:spPr>
            <a:xfrm rot="5400000">
              <a:off x="4929120" y="2424600"/>
              <a:ext cx="924480" cy="2002680"/>
            </a:xfrm>
            <a:prstGeom prst="bentConnector3">
              <a:avLst>
                <a:gd name="adj1" fmla="val 49980"/>
              </a:avLst>
            </a:prstGeom>
            <a:ln cap="sq" w="76320">
              <a:solidFill>
                <a:srgbClr val="000099"/>
              </a:solidFill>
              <a:miter/>
            </a:ln>
          </p:spPr>
        </p:cxnSp>
        <p:cxnSp>
          <p:nvCxnSpPr>
            <p:cNvPr id="122" name=""/>
            <p:cNvCxnSpPr>
              <a:stCxn id="116" idx="2"/>
              <a:endCxn id="120" idx="0"/>
            </p:cNvCxnSpPr>
            <p:nvPr/>
          </p:nvCxnSpPr>
          <p:spPr>
            <a:xfrm flipH="1" rot="16200000">
              <a:off x="6923520" y="2431800"/>
              <a:ext cx="924480" cy="1987920"/>
            </a:xfrm>
            <a:prstGeom prst="bentConnector3">
              <a:avLst>
                <a:gd name="adj1" fmla="val 49980"/>
              </a:avLst>
            </a:prstGeom>
            <a:ln cap="sq" w="76320">
              <a:solidFill>
                <a:srgbClr val="000099"/>
              </a:solidFill>
              <a:miter/>
            </a:ln>
          </p:spPr>
        </p:cxnSp>
        <p:sp>
          <p:nvSpPr>
            <p:cNvPr id="123" name=""/>
            <p:cNvSpPr/>
            <p:nvPr/>
          </p:nvSpPr>
          <p:spPr>
            <a:xfrm>
              <a:off x="5396040" y="5029920"/>
              <a:ext cx="900000" cy="3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A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9200" y="5029920"/>
              <a:ext cx="879480" cy="3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A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21320" y="5029920"/>
              <a:ext cx="790560" cy="3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A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249720" y="5028480"/>
              <a:ext cx="833400" cy="3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A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18" idx="2"/>
              <a:endCxn id="126" idx="0"/>
            </p:cNvCxnSpPr>
            <p:nvPr/>
          </p:nvCxnSpPr>
          <p:spPr>
            <a:xfrm rot="5400000">
              <a:off x="3683520" y="4320360"/>
              <a:ext cx="691200" cy="727560"/>
            </a:xfrm>
            <a:prstGeom prst="bentConnector3">
              <a:avLst>
                <a:gd name="adj1" fmla="val 49973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  <p:cxnSp>
          <p:nvCxnSpPr>
            <p:cNvPr id="128" name=""/>
            <p:cNvCxnSpPr>
              <a:stCxn id="118" idx="2"/>
              <a:endCxn id="124" idx="0"/>
            </p:cNvCxnSpPr>
            <p:nvPr/>
          </p:nvCxnSpPr>
          <p:spPr>
            <a:xfrm rot="5400000">
              <a:off x="3999240" y="4637880"/>
              <a:ext cx="692640" cy="94320"/>
            </a:xfrm>
            <a:prstGeom prst="bentConnector3">
              <a:avLst>
                <a:gd name="adj1" fmla="val 49973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  <p:cxnSp>
          <p:nvCxnSpPr>
            <p:cNvPr id="129" name=""/>
            <p:cNvCxnSpPr>
              <a:stCxn id="118" idx="2"/>
              <a:endCxn id="123" idx="0"/>
            </p:cNvCxnSpPr>
            <p:nvPr/>
          </p:nvCxnSpPr>
          <p:spPr>
            <a:xfrm flipH="1" rot="16200000">
              <a:off x="4772160" y="3958200"/>
              <a:ext cx="692640" cy="1453320"/>
            </a:xfrm>
            <a:prstGeom prst="bentConnector3">
              <a:avLst>
                <a:gd name="adj1" fmla="val 49973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  <p:cxnSp>
          <p:nvCxnSpPr>
            <p:cNvPr id="130" name=""/>
            <p:cNvCxnSpPr>
              <a:stCxn id="118" idx="2"/>
              <a:endCxn id="125" idx="0"/>
            </p:cNvCxnSpPr>
            <p:nvPr/>
          </p:nvCxnSpPr>
          <p:spPr>
            <a:xfrm flipH="1" rot="16200000">
              <a:off x="4357800" y="4372560"/>
              <a:ext cx="692640" cy="624600"/>
            </a:xfrm>
            <a:prstGeom prst="bentConnector3">
              <a:avLst>
                <a:gd name="adj1" fmla="val 49973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</p:grpSp>
      <p:sp>
        <p:nvSpPr>
          <p:cNvPr id="131" name=""/>
          <p:cNvSpPr/>
          <p:nvPr/>
        </p:nvSpPr>
        <p:spPr>
          <a:xfrm>
            <a:off x="609480" y="3772080"/>
            <a:ext cx="2667240" cy="1828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4838760"/>
            <a:ext cx="289584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G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0800000">
            <a:off x="611280" y="3735360"/>
            <a:ext cx="2666880" cy="419040"/>
          </a:xfrm>
          <a:prstGeom prst="triangle">
            <a:avLst>
              <a:gd name="adj" fmla="val 50000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2171880"/>
            <a:ext cx="2667240" cy="160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61760" y="2400480"/>
            <a:ext cx="222804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Discussion et vote </a:t>
            </a:r>
            <a:br>
              <a:rPr sz="1800"/>
            </a:b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au Par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1560" y="3733920"/>
            <a:ext cx="149184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Autor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Exé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02B11-85C1-4769-ABBE-16C673FFEDE3}" type="slidenum">
              <a:t>5</a:t>
            </a:fld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a mission : l’expression des choix politiqu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35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32 missions pour le budget généra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L’identification de politiques publiques cohérentes : «Une mission comprend un ensemble de programmes concourant à une politique publique définie»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Elle est l'unité de vote du Parlement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elle regroupe un ensemble de programmes,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 Parlement peut réallouer les crédits entre programmes, au sein d'une mission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Elle peut être ministérielle ou interministériell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8 missions interministérielles,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exemple : la mission «Recherche» qui concerne 6 ministèr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A85F1-54D5-41D1-9E18-A42536E0BFF1}" type="slidenum">
              <a:t>6</a:t>
            </a:fld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826920" y="1928160"/>
            <a:ext cx="7858440" cy="4674960"/>
            <a:chOff x="826920" y="1928160"/>
            <a:chExt cx="7858440" cy="4674960"/>
          </a:xfrm>
        </p:grpSpPr>
        <p:sp>
          <p:nvSpPr>
            <p:cNvPr id="140" name=""/>
            <p:cNvSpPr/>
            <p:nvPr/>
          </p:nvSpPr>
          <p:spPr>
            <a:xfrm>
              <a:off x="7153200" y="2139480"/>
              <a:ext cx="1522440" cy="78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Enseign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Supérieur 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Recherch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26920" y="1928160"/>
              <a:ext cx="6105600" cy="120996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Formation supérieure et recherche universitai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Vie étudian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s scientifiques et technologiques pluridisciplinai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dans le domaine de la gestion des milieux et des ressourc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spatia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5400000">
              <a:off x="6890400" y="249444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26920" y="3382560"/>
              <a:ext cx="610560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industriel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153200" y="3136680"/>
              <a:ext cx="1522440" cy="84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Économie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Industrie et</a:t>
              </a:r>
              <a:br>
                <a:rPr sz="1400"/>
              </a:b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Emplo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5400000">
              <a:off x="6890400" y="352188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26920" y="3889080"/>
              <a:ext cx="6105600" cy="99684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dans le domaine des risques et des pollu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dans le domaine de l'énerg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dans le domaine des transports, de l'équipement et de l'habita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153200" y="3889080"/>
              <a:ext cx="1522440" cy="9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Écologie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Développ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Aménagement durab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5400000">
              <a:off x="6890400" y="435060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153200" y="5016600"/>
              <a:ext cx="15224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Défen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26920" y="5014800"/>
              <a:ext cx="610560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duale (civile et militair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5400000">
              <a:off x="6890400" y="515736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26920" y="6245640"/>
              <a:ext cx="610560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nseignement supérieur et recherche agrico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153200" y="6245640"/>
              <a:ext cx="15224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Agricult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5400000">
              <a:off x="6890400" y="638964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162920" y="5618520"/>
              <a:ext cx="15224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Cult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36640" y="5615280"/>
              <a:ext cx="610704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culturelle et culture scientifiq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5400000">
              <a:off x="6899760" y="5759640"/>
              <a:ext cx="298440" cy="7452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a mission « Recherche et enseignement supérieur »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12 programmes / 6 ministère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3FF91-29F7-4EF2-A488-55DF040C0E4A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e programme : cadre d’autorisation et de gestion des politiques publiqu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00"/>
              </a:spcBef>
              <a:spcAft>
                <a:spcPts val="3501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130 programmes pour le budget généra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Le programme regroupe les crédits (quelle qu’en soit la nature) destinés à mettre en œuvre une action ou un ensemble cohérent d'actions (600)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Il relève d'un seul ministr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Unité de spécialité des crédits et de définition des objectifs et indicateurs de résultat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as de budgétisation analytiqu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Il nécessite un pilotage qui fait apparaître de nouvelles fonctions managériales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204840"/>
            <a:ext cx="7010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55520" y="204840"/>
            <a:ext cx="765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E9364-310E-4B19-915F-11611CF77340}" type="slidenum">
              <a:t>8</a:t>
            </a:fld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5181480" y="2967120"/>
            <a:ext cx="3657600" cy="53496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Administration pénitenti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181480" y="5110200"/>
            <a:ext cx="3657600" cy="99864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Conduite et pilotage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la politique de la jus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et organismes rattach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81480" y="2349360"/>
            <a:ext cx="3657600" cy="45720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Justice judici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81480" y="3662280"/>
            <a:ext cx="3657600" cy="74448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Protection judiciaire </a:t>
            </a:r>
            <a:br>
              <a:rPr sz="2000"/>
            </a:b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de la jeunes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181480" y="4567320"/>
            <a:ext cx="3657600" cy="38268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Accès au droit et à la jus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a globalisation des crédits</a:t>
            </a:r>
            <a:br>
              <a:rPr sz="3000"/>
            </a:br>
            <a:r>
              <a:rPr b="1" lang="pl-PL" sz="2700" spc="-1" strike="noStrike">
                <a:solidFill>
                  <a:srgbClr val="ffffff"/>
                </a:solidFill>
                <a:latin typeface="Arial"/>
              </a:rPr>
              <a:t>L’exemple de la mission «justice»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92200" y="1484280"/>
            <a:ext cx="4267080" cy="4897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a50021"/>
                </a:solidFill>
                <a:latin typeface="Arial"/>
              </a:rPr>
              <a:t>Avant : 30 chapit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a50021"/>
                </a:solidFill>
                <a:latin typeface="Arial"/>
              </a:rPr>
              <a:t>160 articles de pré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Titre III - Moyens des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Personnel - rémunérations d'activit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Personnel en retraite - pensions et allo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Personnel en activité et en retraite - charges soci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Matériel et fonctionnement des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Subventions de fonctionn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Dépenses diver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Titre IV - Interventions publ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Interventions politiques et administra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Actions sociale - assistance et solidarit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Titre V - Investissements exécutés par l'Ét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Équipement administratifs et div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Titre VI - Subventions d'investissement accordées par l'Ét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Équipement culturel et so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95840" y="3044880"/>
            <a:ext cx="380880" cy="1600200"/>
          </a:xfrm>
          <a:prstGeom prst="rightArrow">
            <a:avLst>
              <a:gd name="adj1" fmla="val 71824"/>
              <a:gd name="adj2" fmla="val 50833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148360" y="1679400"/>
            <a:ext cx="36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a50021"/>
                </a:solidFill>
                <a:latin typeface="Arial"/>
              </a:rPr>
              <a:t>Après : 5 program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9EB51-E6C0-4968-AB25-C644A19B3FDE}" type="slidenum">
              <a:t>9</a:t>
            </a:fld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0:25:37Z</dcterms:created>
  <dc:creator>MINEFI</dc:creator>
  <dc:description/>
  <dc:language>en-US</dc:language>
  <cp:lastModifiedBy>KAS</cp:lastModifiedBy>
  <dcterms:modified xsi:type="dcterms:W3CDTF">2009-02-05T12:50:16Z</dcterms:modified>
  <cp:revision>168</cp:revision>
  <dc:subject/>
  <dc:title>La gestion de la réforme budgétaire </dc:title>
</cp:coreProperties>
</file>