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CA6F-13FE-4463-8D9F-3FB900104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DA96-40B2-4D72-A2C3-EF94BF63C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E687-3DA8-4B52-AF4D-E51934FCB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8C99-6924-4B16-8AD8-5488940A7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E4D0-BE1D-4094-8AE4-F5AC51430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2DFC-B4E6-4735-8079-18A87C80D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2374-9531-4689-905A-A5D0307AF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F866-8809-481C-A6C8-D0A3FD5C7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8A9F-C48C-4AA4-91D7-E0490F1B9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BC7D5-6383-4E05-9580-85A7CE2DB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9600-08EE-40EE-B7EE-97F3AEC4D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4B27-BD9C-4702-9559-281A1EB9C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C68437-ECB4-4B93-AC97-401AC4F3D644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Od modernizacji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o reformy państwa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we Francji 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601668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arszaw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, 11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rudni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3244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197000"/>
            <a:ext cx="8530920" cy="5668200"/>
            <a:chOff x="287280" y="1197000"/>
            <a:chExt cx="8530920" cy="5668200"/>
          </a:xfrm>
        </p:grpSpPr>
        <p:sp>
          <p:nvSpPr>
            <p:cNvPr id="149" name=""/>
            <p:cNvSpPr/>
            <p:nvPr/>
          </p:nvSpPr>
          <p:spPr>
            <a:xfrm>
              <a:off x="749160" y="5113440"/>
              <a:ext cx="293724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5397480"/>
              <a:ext cx="2311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Każda administracja oddaje do dyspozycji użytkownika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informacje i dokument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«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surowe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342800"/>
              <a:ext cx="5452200" cy="468468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1280" y="1197000"/>
              <a:ext cx="261792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 kierunku 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koncentrowanej na użytkownik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560" y="3560760"/>
              <a:ext cx="293580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0640" y="384480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Łańcuch obróbki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«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on line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» 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skłania do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ponownego przemyślenia procesów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organizacji i zawod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24680" y="2082960"/>
              <a:ext cx="2759400" cy="140148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1120" y="236844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Administracja zwraca się w stronę użytkownika, ab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lepiej spełniać jego oczekiw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680" y="3390840"/>
              <a:ext cx="198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ad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«auto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entrycznej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»: 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złożoność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600"/>
              </a:b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termin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94520" y="5261040"/>
              <a:ext cx="1284480" cy="291960"/>
            </a:xfrm>
            <a:custGeom>
              <a:avLst/>
              <a:gdLst>
                <a:gd name="textAreaLeft" fmla="*/ 224640 w 1284480"/>
                <a:gd name="textAreaRight" fmla="*/ 931320 w 128448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98360" y="4670280"/>
              <a:ext cx="2689560" cy="14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ematerializacja deklaracji podatku od dochodów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: Administration24h24.gouv.fr : 60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alności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«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dematerializowanych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1280" y="3708360"/>
              <a:ext cx="1284120" cy="29232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2320"/>
                <a:gd name="textAreaBottom" fmla="*/ 2534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4440" y="2452680"/>
              <a:ext cx="17337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o do 1 tematu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miana adresu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krojow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strzeń przechowywania certyfikowanych danych administracyjnych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i dostęp d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zynności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2520" y="6442200"/>
              <a:ext cx="1284120" cy="29196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7640" y="6221520"/>
              <a:ext cx="21942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rz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df 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do wydruku na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48680" y="510300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9000" y="35521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59480" y="20725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źwignia zmian każdego rodzaju administra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62E9-41C7-468E-9FCE-CAD1389B8605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usług w czasie rzeczywisty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materializacja czynności i oferta nowych usług on lin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materializacja formularz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dostęp za pośrednictwem jednolitej witryny intern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iana adresu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3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prowadze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kty urodzenia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.00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ów dzien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uchomienie na począt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oku portal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 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test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 dotacje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rancja weszła d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uropejskiego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p 5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dziedzinie usług publicznych on lin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adani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Capgemin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Komisji Europejskie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czerwi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83CC-3774-4746-B142-20E5C90E5302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7664-D91F-4F62-AFFE-AD7E6C97D893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owadzenie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odległa Premier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ariat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7-200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podleg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owi odpowiedzialnemu za służbę cywilną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ędzyresortowa Delegatura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IRE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różne urzę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003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RB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ministerstwie budżet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wdroż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5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kotwiczenie reformy państwa przy budżec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worzenie Generalnej Dyrekcji ds. Modernizacji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ol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y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iągłość pomiędzy reformą budżetową i reformą państw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ynerg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petencji i dźwigni dział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7 : Bud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łużba cywilna przy ministrze budże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6A6C-C4AD-4A23-A831-D69144D3BDEC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kotwiczenie przy ministrze budżet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Fuzja wszystkich istniejących struktur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zapewniająca synergię kompetencji oraz dźwigni działani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dani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DGME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«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Koordynacj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pomoc i zachęt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na szczeblu międzyresortowym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instancji administracyjnych w celu modernizacji sposobów funkcjonowania i zarządzania państwem, aby zapewnić lepszą jakość usługi świadczonej użytkownikom, przyczynić się do bardziej wydajnego wykorzystywania środków publicznych i mobilizować urzędników publicznych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zacja, w zasadniczej mierze, w trybie projektu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: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rad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sługi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inno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wacj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Kultura mieszan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public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ny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pr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ywatny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rzędnicy państwowi i pracownicy najemni sektora prywatnego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+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pomoc usługodawców zewnętrznych z firm konsultingowej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Opracowywanie dokumentacji i zapewnianie spójności kluczowych tematów międzyresortowych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Tworzenie impulsów do podejmowania nowych konkretnych zadań modernizacyjny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Pomoc i wspieranie administracji w czasie transformacji</a:t>
            </a: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F555-D857-4EF0-97EA-E5354750AEAC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przynajmniej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 na ministerstwo co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 następnie co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3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lipiec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ów rozpoczęty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6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kcja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obejmujących ponad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ld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mbitny ry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glob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óżnorodność dział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cedur i funk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bejmujących główne wyzwania w sferze moderniza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kcje sektor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ort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 przekroj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zakupy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łac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archi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izacj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iurotyk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artne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obór temat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o sprawa każdego ministra i prem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e to pozwala ministerstwom przyswojenie sobie diagnozy i występowania w roli aktor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a modernizacyj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fia funkcjonowania państwa w celu poprawy jakości usługi świadczonej na rzecz Francuzów w warunkach optymalizacji koszt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3789-F66C-4C41-BB5C-5A218BA0FCB0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kcje międzyresortowe i ministerialn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6760" algn="just">
              <a:spcBef>
                <a:spcPts val="400"/>
              </a:spcBef>
              <a:tabLst>
                <a:tab algn="l" pos="0"/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zy wsparciu konsultantów z sektora prywat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eszane zespoły audyt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pozycje konkretne i skwantyfikow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drażanie uzgadniane z interesariusz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Konkretne plany zmian w ciąg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18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esię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oper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głaszanie sprawozdań w interne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ablica rozdzielcza audy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rzejrzy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zrost produktywn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noszenie jakości usł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nkretne wy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6AAF-78C8-4618-8759-FED7EE3EA451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kontekst polityczn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rezydenta Sarkozy’ego w maj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 organizacja rządowa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ylko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o finansów podzielone na 2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gospodarki, finansów i zatrudnieni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budżet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rachunków publicznych i służby cywilnej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jest pilotowana przez urząd prezydenta Republiki oraz gabinet premiera i opiera się na ministerstwie budże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guła niezastępowania pracowników odchodzących na emeryturę w proporcji większej niż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ferze służby cywiln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D20F-3D52-40DF-B6FB-B13C82487F73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Ogólny Przegląd Polityk Publicznych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A58D-DCB8-4AC9-BCBF-9F3FE831A07C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gólny Przegląd Polityk Publi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no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prezydenta Republiki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Nicola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SARKOZY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’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e la RGPP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pewnić możliwie jak najlepszą usługę publicz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ak najtańszym kosz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ryfikacja zad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zczędności budżetowych i zmniejszania deficy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mbit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ilotaż polityczny na najwyższym szczebl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komitet monitorujący składający się z wielkich decydentów publicznych, rozstrzyga Prezydent Republiki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 posiedzeni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rady do spraw modernizacji polityk publicznych</a:t>
            </a:r>
            <a:r>
              <a:rPr b="1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odejście wyczerpujące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domeny działań publicznych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resorty i wielcy operatorzy państwa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rzędzia dotyczące sfery praworządności i celów działania państwa, zanim padnie propozycja reform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RGPP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korzystuj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bre praktyki międzynarodow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ównie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nady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tóra przeprowadzi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przegląd program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uż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4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i gdzie deficyt publiczny został sprowadzony z poziom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5,9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2 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nadwyż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0,4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175C-AD40-496D-A194-7AE59F44CB91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Wyzwania związane z modernizacją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3110-87CE-4646-ACEC-2E02ACD6FC5A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65000"/>
            <a:ext cx="8261640" cy="6096600"/>
            <a:chOff x="880920" y="765000"/>
            <a:chExt cx="8261640" cy="6096600"/>
          </a:xfrm>
        </p:grpSpPr>
        <p:sp>
          <p:nvSpPr>
            <p:cNvPr id="201" name=""/>
            <p:cNvSpPr/>
            <p:nvPr/>
          </p:nvSpPr>
          <p:spPr>
            <a:xfrm>
              <a:off x="127944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 robimy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e są potrzeby i oczekiwania zbiorowe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7504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0880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 scenariusz transform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0632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27040"/>
              <a:ext cx="24973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cele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zapewnia ona usług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o gwarantuj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o czego się przyczy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emu zaradz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są beneficjenci, o których mowa, i jakie posiadają cech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2280"/>
              <a:ext cx="275112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cenariusze zmian celem uzyskania skuteczniejszej i mniej kosztownej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 zapewnić skuteczne wdrożen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2680"/>
              <a:ext cx="2328840" cy="9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wprowadzić należy zmiany celem modernizacj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optymalizującej środ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realizacji takiej polity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rzy zapewnieniu przestrzegania jej celów oraz poprawy ram pracy urzędnik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uprościć struktury i procedur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1476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uzasadnione jest finansowanie takiej polityki przez państwo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go rodzaju współfinansowanie mlożna tu sobie wyobrazi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36680"/>
              <a:ext cx="28890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a polityka zawsze służy interesowi publicznemu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działy odpowiadają potrzebo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nowe oczekiwa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ą nową ofertę usług zapropono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ewoluowali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rzeczywiście są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ego rodzaju polityka niesie w sobie skutki przewrotn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lub też środki będące swoistą manną z nieb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8941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7504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 zrobić lepiej i taniej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0080"/>
              <a:ext cx="2160720" cy="6732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zy wciąż należy tak postępowa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3464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3464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64920"/>
              <a:ext cx="1048320" cy="7200"/>
            </a:xfrm>
            <a:prstGeom prst="bentConnector3">
              <a:avLst>
                <a:gd name="adj1" fmla="val 52421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0632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3120"/>
              <a:ext cx="2919240" cy="8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taką politykę utrzymy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dokonać rewizji cel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usługi powinna ona świadczy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dostosować narzędzia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 Czy należy zmieniać zakres beneficjent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08440" y="5354280"/>
              <a:ext cx="504000" cy="2160"/>
            </a:xfrm>
            <a:prstGeom prst="bentConnector3">
              <a:avLst>
                <a:gd name="adj1" fmla="val 49749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0552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2896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204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2700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1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79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194000"/>
              <a:ext cx="187200" cy="20196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246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2920"/>
              <a:ext cx="2184480" cy="149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Ta polityka może być skuteczniej zabezpieczana za pośrednictwem innych aktorów lub form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o państwo powinno taką politykę prowadz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Na jakim poziom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zięki jakiej współpracy i powiązaniom z innymi aktorami o charakterze publicznym lub prywatny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iatka analiz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A180-AD99-4119-9B78-E82EFC46272C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naliza dotyczy różnego rodzaju wydatk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87280" y="1773360"/>
            <a:ext cx="7054920" cy="4532040"/>
            <a:chOff x="1187280" y="1773360"/>
            <a:chExt cx="7054920" cy="4532040"/>
          </a:xfrm>
        </p:grpSpPr>
        <p:sp>
          <p:nvSpPr>
            <p:cNvPr id="234" name=""/>
            <p:cNvSpPr/>
            <p:nvPr/>
          </p:nvSpPr>
          <p:spPr>
            <a:xfrm>
              <a:off x="1187280" y="1773360"/>
              <a:ext cx="3395880" cy="630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3280" y="189216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arat produkcyj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0840" y="1774800"/>
              <a:ext cx="3397320" cy="625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94640" y="1892160"/>
              <a:ext cx="140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wenc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87280" y="2544840"/>
              <a:ext cx="3395880" cy="14922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7960" y="260676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4880" y="2546280"/>
              <a:ext cx="3397320" cy="149220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07000" y="260820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5440" y="2846520"/>
              <a:ext cx="33242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osobow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bieżąc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(y.c.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otacje dla operatorów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westycj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« 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yjn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 » (informat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yka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obrót nieruchomościami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td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13280" y="2927520"/>
              <a:ext cx="332568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interwencyjn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transfer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y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otacj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westycje strukturując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obron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frastruktur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o charakterze fiskalny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87280" y="4246560"/>
              <a:ext cx="1638360" cy="20304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8120" y="4246560"/>
              <a:ext cx="16401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2400" y="4246560"/>
              <a:ext cx="16383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38320" y="4246560"/>
              <a:ext cx="1641600" cy="205884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wspar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500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operacyj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13280" y="4317840"/>
              <a:ext cx="15098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dyskrecjona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15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przy „otwartym okienku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4876920"/>
              <a:ext cx="15163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ja central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spieranie polityk publiczny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Przekrojowe funkcje wspierają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33720" y="4876920"/>
              <a:ext cx="15159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tosunki bezpośrednie z użytkowniki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konanie usługi publicznej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świadcze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1328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Klasyczna logika dot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wentualnie na zasadzie umowne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4992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ka świadczeń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transferów bezpośredni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Na podstawie kryteriów otwierających dane praw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4ED0-9FB5-4816-B93E-FBA6D71DA0C4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rganizacja pra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7095960"/>
            <a:chOff x="295200" y="981000"/>
            <a:chExt cx="8739360" cy="7095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633384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9844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nisterialnych zespołów audytow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szef zespołu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członkowie ciała inspekcyjnego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konsultanci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21428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zespołów do spraw</a:t>
              </a: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wielkich polityk interwencyjn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Metoda specjalna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–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óźniej przypisanie do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9844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ędzyresortowe grupy roboc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ilotaż automatyczny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odmienny od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754720"/>
              <a:ext cx="2662200" cy="451224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ewnętrzne działania pań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ubliczna pomoc na rzecz rozwoj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lnictwo i rybołóws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ultura i komunikacja oraz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łużby Premi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bro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kolog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rwały rozwój i zagospodarowanie przestrze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szko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zkolnictwo wyższe i badania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eci finans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ymiar sprawiedliw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chrona zdrow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lidarność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ezpieczeństw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igracja a integrac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prawy wewnętr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erytoria zamo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754720"/>
              <a:ext cx="2662200" cy="402912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bezpieczenie chorob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yki solidarności oraz zwalczania ubó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asta i mieszk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trudnienie a kształcenie zawod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zwój przedsiębiorst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754720"/>
              <a:ext cx="2662200" cy="27385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e zasobami ludzki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zacja administracji samorządowe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cje łączące państwo z samorządami lokalny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proszczenie procedur wewnętrz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574960"/>
              <a:ext cx="2662200" cy="12070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danie specj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obciążeń administracyjnych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edsiębiorstw i samorządów lokal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33000" y="5550120"/>
              <a:ext cx="485640" cy="2951640"/>
            </a:xfrm>
            <a:prstGeom prst="bentConnector3">
              <a:avLst>
                <a:gd name="adj1" fmla="val -166468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07920" y="4074120"/>
              <a:ext cx="487080" cy="5902920"/>
            </a:xfrm>
            <a:prstGeom prst="bentConnector3">
              <a:avLst>
                <a:gd name="adj1" fmla="val -166050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C9AB-AB6E-4A47-A147-3E2066B6F544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uruchomie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ra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race analityczne i scenariusze pośred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Ostateczne scenariusz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ziałania transform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Lipiec-sierp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rzesień-grudz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tyczeń-maj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ruchomienie podejścia przez Prem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tanowienie zespołów audyt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n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00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każde ministerstwo staje przed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mitetem Monitorującym celem zbadania scenariuszy zmiany polityk ministerstw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erwsza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da stan zaawansowania pra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grudni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ugie stawiennictwo przed Komitetem Monitorującym celem zgłębienia scenariusz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eny ich wpływu oraz zbadan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unków wsparc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erw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ostaje powiadomiona o strategicznych scenariuszach wszystkich resortów i przyjmuje zasadnicze decyzj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15360" y="4483080"/>
            <a:ext cx="1628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drażanie reform przewidzianych na okr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9-2011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ramach budżetu wieloletni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zacja wszystkich dźwigni modernizacyj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alendarz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093080" y="208080"/>
            <a:ext cx="1906560" cy="1058760"/>
            <a:chOff x="7093080" y="208080"/>
            <a:chExt cx="1906560" cy="105876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093080" y="208080"/>
              <a:ext cx="1906560" cy="10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D957-0241-44CD-8C7D-C2C4A781A40C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3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środków reformy ogłoszonych w czerwc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200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Oszczędności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ć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7,7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mld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€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 ciąg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4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a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czyli okoł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ci w omawianym zakresi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Redukcja zatrudnieni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50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iezastąpionych pracowników po ich odejściu na emeryturę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30.60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likwidowanych miejsc pracy w budżec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Modernizacja resortó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Konsekwencje fuzji kilku ministerst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iczby dyrekcji w administracji centralnej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)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Finans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Generalna Dyrekcja Finansów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o spraw podatkow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Reforma państwa samorządow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placówek w teren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bron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miar sprawiedliwości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chrona zdrowia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Szczebel regionalny podlega prawu powszechnemu, jeśli chodzi o programow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hierarchiczna zwierzchność prefekta regionu nad prefektem departament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dyrekcji regional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8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mias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epartamen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kon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wężenie struktur wokół prefekt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owe międzyresortowe dyrekcj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6FD7-C22D-457B-977A-29053D353C6E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a przekroj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ństwo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amorządy lokaln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jaśnienie spraw kompetencyjnych po przyjęciu ustaw decentralizacyj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i ujęcie w ramy norm narzucanych przez państwo samorząd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psze przestrzeganie globalnego wymogu finansów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 kierunku reformy szczebli administracji w roku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9 ?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gmin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wiązki gmin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d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partamen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g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proszczenie wewnętrznych procedur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tworz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gencji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ających w łonie państwa większą elastyczność zarządzania autonomicznym struktur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gulowanie inflacji normatyw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zednie badanie wpływ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aszczanie procedu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acja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kładanie zamówie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nsultac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kontroli wydatk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ksperyment z komitetem budżetowania zamiast uprzedniego wizowania aktów kontroli finansow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90DB-2356-4DC4-B202-321A22824888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5280" y="1522080"/>
            <a:ext cx="83883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rządzanie finansami publiczny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ieloletni budżet dla państ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9-2011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wa w sprawie programowania finans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jęta w grudni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ślejsze reguły przyjmowania w dziedzinie wydatków podatk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i mutualizacja funkcji wspierając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nowienie krajowego operatora ds. płac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ntralizacja polityki w dziedzinie obrotu nieruchomościa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dukcj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atku papierow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obciążeń dla przedsiębio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zwój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organizacji zakup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rajowa agencja zakupów zmutualizowa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prawa obsługi w sferze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sługa wielokanał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pieranie restrukturyz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przez odpowiednią politykę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dziedzini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obów ludzk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mie za mobilność i dodatek za dobrowolne przejście na emerytur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568B-7AD2-4A1C-83A9-34BCBBA32805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kierunku zmiany statusu służby cywiln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iała księg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4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pozycji modernizacji służby cywilnej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projektu ustawy 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,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organizacja statusu tego korpusu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 utworzen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ielkich działów zawod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dministracja ogól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fina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socjal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i badania nau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kultu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echnik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ezpieczeństw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za sprawami wojskowości i sądownic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efinicja miejsca umowy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wy publicznoprawne w przypadku suwerennych miejsc prac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umowy prywatnoprawne w przypadku pozostałych miejsc pracy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lenie części wynagrodzenia za zasług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uwzględniająca usytuowanie w hierarchi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sługa la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związana z zatrudnie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ęść stała i część zmien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ązana z wynik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3623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705720" y="6400800"/>
          <a:ext cx="914400" cy="33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6400800"/>
                    <a:ext cx="914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590920" y="6324480"/>
            <a:ext cx="487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6477120"/>
            <a:ext cx="5334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6095880"/>
            <a:ext cx="525780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1ED7-831C-4DB0-B3FC-66B25059BEFB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tuacja finansów publicznyc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ficyt i zadłużen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mograf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rakcyjność służby cywi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połecz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zekiwania obyw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na konkurencyjność państwa w zglobalizowanej gospod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łączenie różnych poziomów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ministr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ństw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orządy lok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a Europejsk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79800" y="3413160"/>
            <a:ext cx="321948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z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aństwo musi stawić czoło poważnym wyzwanio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49F8-87C4-4AEE-A14F-98080C44DD05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ontekst i zasięg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ekst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a sytuacja finansów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dłuż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63,9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i deficy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,7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ięg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aństwo to tylko część sfery public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wet obywatele zawsze zwracają się do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lityki publiczne określane przez państw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hociaż niektóre spośród nich są zarządzane przez podmioty autonomi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Państw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różne podmio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3993840"/>
              <a:ext cx="18702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 szczebla lokaln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bezpieczenia społe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991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ld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4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7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44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BE68-0E01-464A-B61B-73B50FA65663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lementy składowe budżetu państwa francuskie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dzaj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43%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osobow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2% d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interwen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ężar dług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4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bieżą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westycj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ć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1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narodo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społeczne-zatrudnienie-ochrona zdrowi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ro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8,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naukowe i szkolnictwo wyższ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d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2,2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zęd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zem z samorządami lokalnym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szpitalnictwem, czy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wodowo czynnej lud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 czego połowa to nauczyciele finansowani z budżetu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1C6A-E740-46B0-887D-FD6FF0AB0D47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źwignie modernizacji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1758960"/>
            <a:ext cx="7829280" cy="4189320"/>
            <a:chOff x="684360" y="1758960"/>
            <a:chExt cx="7829280" cy="4189320"/>
          </a:xfrm>
        </p:grpSpPr>
        <p:sp>
          <p:nvSpPr>
            <p:cNvPr id="123" name=""/>
            <p:cNvSpPr/>
            <p:nvPr/>
          </p:nvSpPr>
          <p:spPr>
            <a:xfrm>
              <a:off x="684360" y="1758960"/>
              <a:ext cx="782928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82560" y="1963080"/>
              <a:ext cx="68407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zy zasadnicze dźwigni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 «</a:t>
              </a: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klasyczn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we zarządzanie publiczne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(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proszczenie i wymóg jako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zwój administracji elektroniczne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4080" y="2984400"/>
              <a:ext cx="84780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54080" y="3776760"/>
              <a:ext cx="84780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4080" y="4640400"/>
              <a:ext cx="84780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2032-DDEC-44C6-A514-2175F3E69786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e zarządzanie publiczne promowane przez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9279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fleksja na temat sensu dział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rmalizacja strategii i celów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wobod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izacja limitów środków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koncentracja decyzji zarządczych celem poszukiwania zysków wydajności jak najbliżej teren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gika wydajnośc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le i wskaźnik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zędzia pilotaż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 informacji budżetowo-księgowe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kowość roku obrachunkoweg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rola zarządz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2986200"/>
            <a:ext cx="8135640" cy="3890520"/>
            <a:chOff x="755640" y="2986200"/>
            <a:chExt cx="8135640" cy="3890520"/>
          </a:xfrm>
        </p:grpSpPr>
        <p:sp>
          <p:nvSpPr>
            <p:cNvPr id="131" name=""/>
            <p:cNvSpPr/>
            <p:nvPr/>
          </p:nvSpPr>
          <p:spPr>
            <a:xfrm>
              <a:off x="3567600" y="4008600"/>
              <a:ext cx="2162520" cy="9792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751200"/>
              <a:ext cx="2402280" cy="149544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Aktorz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303800"/>
              <a:ext cx="2173680" cy="707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okładnie zidentyfikowa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niej licz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Bardziej odpowiedzial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6320" y="4255920"/>
              <a:ext cx="1489320" cy="490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Zdolność do działan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9800" y="408780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6480" y="3373560"/>
              <a:ext cx="2405520" cy="334944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691240" y="4369320"/>
              <a:ext cx="52092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6200" y="3419640"/>
              <a:ext cx="2116440" cy="34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skuteczność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aktyczna dział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Zespoły umotywowane i zmobilizowane na osiąganiu wytyczonych wyni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zdolność dostosowania działań z uwzględnieniem wyników celem rozwiązywania problem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3200" y="3586320"/>
              <a:ext cx="2998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3200" y="46720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43200" y="59896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1600" y="5067360"/>
              <a:ext cx="2737080" cy="70812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ymóg wstępny celem budowy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systemu odpowiedzialności ukierunkowanego na wynik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7280" y="2986200"/>
              <a:ext cx="2664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Spodziewane korzyś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FA03-538B-4E79-A361-83F64C89988F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Jakość i uproszczen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upraszczają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osób fizycznych i przedsiębiorst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alka z inflacją normatyw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 współpracy z Generalnym Sekretariatem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SGG)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wpły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acja/labelizacja działów obsługi petent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powszechnienie testów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iana kar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Mariann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kierunku udokumento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rtyfikacji/labelizacji jak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niejszenie obciążeń administ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ążących na użytkownik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obach fizycznych i przedsiębiorstw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wskaźnika złożo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ynności administra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niejszenie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komisj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administra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erwc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prawie powoływania komisji wyłącznie na określony okres czas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A0EA1-F6E6-4BB9-A85D-C23AD7A53FEC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pewnienie wymiany elektronicznej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rządzenie z 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gru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5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sprawie wymiany elektronicznej stanowi podstawę prawną konieczną do przyspieszenia i upowszechnienie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ażność prawna poczty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pis elektroniczny aktów administ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strzeń przechowyw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zacja inwestycji celem uniknięcia ich redundan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chemat przewodni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uje międzyresortowy pilotaż rozwoju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 ustanowieniem zasad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mutuali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skuteczności dział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47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icjatyw zgłoszonych przez ministerstwo przewod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racowanie ogólnych przepisów interoperacyjności i bezpiecze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przypadku państwa chodzi o określ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rpusu reguł,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tóry łączy w sobie zarazem specyfikę zawodową administracji, przestrzeganie poufności danych, płynność wymiany danych cyfrowych, bezpieczeństwo systemów inform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7C67-AA99-4EBF-B96B-C396C682CAA5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1:39:53Z</dcterms:modified>
  <cp:revision>577</cp:revision>
  <dc:subject/>
  <dc:title>Présentation PowerPoint</dc:title>
</cp:coreProperties>
</file>